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80B-CD66-4C1D-9183-F075883A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633-8EC0-4B6C-959C-7426F711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C3C-124E-4AE7-9B70-FD4AEEDA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B5D-F307-4195-81D0-0E1C2A38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1FD4A-3EE9-4666-A7B7-F428E509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6693B-F4C5-480B-B00B-44621A21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A73CC-74A6-4EF9-B0A9-3A6B04B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9E682-865A-4E7D-A522-E096D76B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0001C-FC22-49D5-A4FF-6338025C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A7A59-7927-45ED-8F32-9D84FA9E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5105-F33F-48B2-AE68-35DFDFB0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741-AC52-4B07-A64B-B1596349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B3638-0EFE-4045-8102-4F3FF40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F5CEC-7315-48F3-A74F-39F0596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13C8E-24CF-4B47-8DA9-9F658AF4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E0814-6D24-4E63-9AB9-35394C43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2DB21-ABCB-4B2A-87BE-4A7126C4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DF4-6EB4-4476-9A9B-C8007D53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EF0-EDAB-4A77-9113-4915203F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951-8F1E-4B1C-B0AD-5D334922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AD1-37CE-4B90-A48D-A8AE1B71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AFA-501F-4CC5-8C90-2E81536D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03E-A9A3-457F-954B-97AFFE3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AE0-2868-4BBF-A3D5-7882A14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7623-7526-4266-8622-3D9F39418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67EA-41FD-475E-8ACD-8BF57CE32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atic.luxitrend.com/cache-image/2011/03/Nuance-Luxury-Bedroom-Interior-Mansio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Henry mor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0"/>
            <a:ext cx="441972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a la coc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oc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19520" y="3306600"/>
            <a:ext cx="51051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o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o.gra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124080" y="2336760"/>
            <a:ext cx="55436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grabnde,boni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505320" y="2452680"/>
            <a:ext cx="51814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onderno,gra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Nuance Luxury Bedroom Interior Mans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051000"/>
            <a:ext cx="5638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619360" y="2362320"/>
            <a:ext cx="6524640" cy="4257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sala estopen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itomoder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19520" y="2749680"/>
            <a:ext cx="58672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ara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nde,luj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52680" y="2436840"/>
            <a:ext cx="5324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ard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nitio, bell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14800" y="2514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1:06Z</dcterms:created>
  <dc:creator>morrisontho</dc:creator>
  <dc:description/>
  <dc:language>en-US</dc:language>
  <cp:lastModifiedBy>morrisontho</cp:lastModifiedBy>
  <dcterms:modified xsi:type="dcterms:W3CDTF">2012-03-16T13:17:34Z</dcterms:modified>
  <cp:revision>6</cp:revision>
  <dc:subject/>
  <dc:title>La casa </dc:title>
</cp:coreProperties>
</file>